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4.jpeg" ContentType="image/jpeg"/>
  <Override PartName="/ppt/media/image22.gif" ContentType="image/gif"/>
  <Override PartName="/ppt/media/image15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1.jpeg" ContentType="image/jpeg"/>
  <Override PartName="/ppt/media/image1.gif" ContentType="image/gif"/>
  <Override PartName="/ppt/media/image16.png" ContentType="image/png"/>
  <Override PartName="/ppt/media/image17.png" ContentType="image/png"/>
  <Override PartName="/ppt/media/image18.gif" ContentType="image/gif"/>
  <Override PartName="/ppt/media/image19.jpeg" ContentType="image/jpeg"/>
  <Override PartName="/ppt/media/image10.jpeg" ContentType="image/jpeg"/>
  <Override PartName="/ppt/media/image14.png" ContentType="image/png"/>
  <Override PartName="/ppt/media/image21.gif" ContentType="image/gif"/>
  <Override PartName="/ppt/media/image2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FE4-843B-4474-ADA8-D90071AF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1D4-B790-49A7-AEB6-0C8C10A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2338-C6A1-4FE7-9B34-FD14375D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666D6-0F99-4543-A878-CCC3067B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3551C-7A36-450B-9DDD-98EE55C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045E7-2941-49C0-97F7-947763A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AEBC6-AAAF-4D54-A381-23230EF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20909-05C4-4682-8067-8F2223E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E908E-CD5E-4189-BDA1-F4D64C3A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749F6-9B8C-4C31-8091-CE42B6B3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EC298-D52B-4A09-B4B4-2B47C263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294FE-BCAF-4DAE-AE32-D1A85AF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9F1-BBBF-44EE-AEF5-32489496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4162C-51C3-4A09-A116-23915B9D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9E73C-6CEC-40F2-805D-C41AD1B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9774F-029E-4FF9-979B-ADF6BF1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9D363-5A08-48DA-A300-A732038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D995-E129-4CCE-918F-F0CA0D8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693C1-8524-4FA1-AB1B-8B99E69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1BD3E-D8C1-46DF-833D-FA5D362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96B55-7B09-4C24-89F0-C8C8F95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7F5BE-6A93-4FEF-B0BF-3AA8FB0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592FC-0F35-4590-9EF4-37398C7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A30-1B35-43C1-A550-EF8085CE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DD942-D9FF-4E5C-BFD3-B0347E74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A2407-53E9-429D-BD3B-FA738775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E9CE-F1C3-4E09-8A8A-DEF52EF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58DA-7992-466D-9CEA-28890A0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4A05-3F87-4F5C-9BCD-0D9584F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B4EE-E063-4D7C-9547-ED8DB2B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A31C-4890-42BE-AB7C-6CD96CA1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52C7D-22E4-40DA-AB66-11DD858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A2C55-1766-4D91-A029-4829FDA7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4646-FFF6-45AF-8222-F59E304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6516-5F24-4A97-9E03-229AE47E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21FDF-FB78-4A31-9AF1-E717D18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C1E8D-9956-4E91-B75D-E7836E87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37013-6AD4-4334-9F31-E19C0BB7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E4388-60BE-4CBB-8FBF-AD4DACF4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C60C-9590-4034-8794-D2AF7D3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07291-C592-42BF-B47F-9F1604D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35C0A-2F31-438D-A901-300258F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A6BCC-3DF4-47DB-BDBC-C29C672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E420F-5EB8-4308-8A4B-4E53DBFE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EC3FF-A314-43FB-934F-F9D04E6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0ED-4AD4-42EC-AD47-AD31B70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2A5D7-CBBC-46EF-ABEE-EDA2FA4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E7895-7F43-41F0-9A8A-1DDE2BEB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5A74-A7B2-4BC7-904D-7D1F4F92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E58EA-1864-48D2-9206-C951BF2A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CC900-F4A8-4148-BBE9-24B0BAE9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2B544-6036-4DD1-B20C-E9C1019C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7E630-2E18-4C12-8BEB-FA82B69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1FB90-917C-41D4-9DDC-A11C895D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466E0-3906-440E-88F4-A23B738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8E610-CC90-4E61-BE5B-218A7F6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629D-7CF3-4D92-9CE4-440542B1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0F14D-8993-4E8E-BEA0-06794F9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EEBA3-A2C7-4AEB-8CB6-E404BA07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BC491-A85E-43C5-BA7C-9689DEEA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A0673-B806-4051-8B07-AE0AE5A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78D57-864A-4869-933D-CD015560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0476A-E348-4730-9FE5-506BC915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2485F-9E96-4B52-8240-024498A0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AA9A4-6539-4CB7-BFD6-490FB697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564CB-FEF1-4F84-BB2D-858E0866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DAF9A-A552-468D-AD01-62540161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8AA-1184-4265-B962-EE98DBA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7F676-9ABD-4512-B639-3B3549F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D8807-3FC7-4C04-8F91-40E96A97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B8EF0-0B7D-438C-9CAC-D5211C2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53320-94A2-4E2C-9004-3C0FE79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C2C1D-80FE-4485-A299-E58D66D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1E335-A5CA-43A8-9ECB-F4C0BD4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16EB5-BAF2-4EDC-9147-CCF34820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68AF6-4BFA-4BBA-8A7E-A1EC5B9D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757FE-C940-4B10-937A-506BB04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99465-D260-47DD-8A87-4E4271FA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7FA3-6155-4DFC-B9A6-BBCB6E5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0988C-431B-4317-969A-2E25932A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50C0B-9A3D-429E-A11C-D6819724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85882-F823-4D66-AA56-1ECB636B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127DB-8CD6-48E8-A3F8-5F1BEA2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71D5B-EF4F-4853-BCA1-4E40EFD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D2CD0-4D18-443C-8208-9E3290A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6346D-2828-49E4-B309-B066CD5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DAEB8-3F20-4568-9857-F8578A1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F218B-2CE6-45FF-BBE5-23CBD046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FAEC3-6759-41F4-8495-6588AF81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0AD8-DBEF-4054-9781-164AABBA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057F3-D443-4E6F-9117-D5EE64FF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E9D97-E75C-4395-A760-EB6AB66F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B5F96-18A5-4EC6-8764-CC7F5AA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E1995-81D9-45EC-A6A0-392F4993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31B19-86C0-4EC1-A8E1-D857B03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97608-AC45-4ACD-8A8C-A0755DF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15A347-21E9-4A67-9D3B-675051B6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4D261-3DC7-4767-A317-1403C49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9C726-DDC9-40D8-892B-8B81031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5F945-72BF-49D2-B107-AA388AD8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412C-8123-4886-9EE8-23B90D3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733B2-1706-40C1-9F6C-2FD2621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EC391-74FD-47DA-9102-F7A3703A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7DDD6-4081-4356-A583-151DBCAA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F6A34-41E4-47BC-A5C7-DF633B2F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8026A-3410-42A3-9E83-85B4784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63EE2-853E-491D-95BF-9B23848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64449-56BC-4DD7-9A17-296696FB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38B67-0D0B-4484-826D-D09E984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0318C-F133-40C6-BCED-7ABB179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05DE5-3137-4C56-8E00-2BCC29E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684-8088-4533-91EF-B60AFEA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BB1-7225-4B75-9B0A-96BE2A6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F4FAF-BBE9-4166-9126-0754D238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0213B-E766-45C5-BA34-174603F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1EB1E-430D-4874-9DD7-8B37372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55ED9-6A5F-45B9-A39B-5920EFB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48127-0A4A-43CA-8D3E-EC2B139E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12463-3BCB-45F1-81CE-65201265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0681C-9ACA-496F-A6D4-01EB3EC6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1F0C6-7284-4991-8D73-7D370D5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51E94-A62A-4F99-9EB3-F648F53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7E1C5-93EF-4B6D-9587-D717B599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C14-9B1C-47D4-AD4A-874D57B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B2EAB-9229-429D-8521-79562F5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547D3-14A6-450C-9660-E9EE714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74485-5CB3-4FC7-98FA-E7AFE93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DDA42-A492-4220-95B8-FA46404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95A72-FFF5-4FBA-A550-8362EED9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58B28-2283-463E-A343-CC40E01B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929A7-9398-4BA8-ABBD-1FA2A1E4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B7487-0AF0-4B48-BED7-1D7DA135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AA68E-BD9E-47AA-A986-1243E1F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C172E-DE36-49F0-9266-6F10C37E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E4E3-3FD8-43BF-9DA0-1D4C8A3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114AD-AB4C-4561-B34E-E29961D2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E01B5-C4B9-4002-B7D9-A769790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AB5F2-4D21-4142-A101-9720ABC6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E2963-0EE0-4893-968C-9F1ECFD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FF6B0-2878-4718-8644-008F89E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DAC32-2AC9-4E85-9ED0-3EEE85C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AB7E6-3164-4E67-8FF1-6FA9BF9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799F5-57F9-4A7A-99E5-4DA5F66B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D61A1-2F9D-4462-AEF3-2A5AEDCC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5274E-AA63-4A0A-87F3-D8AB87E6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A175-5055-49C7-B431-29F9C7A4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EF2C6-AF5A-4D35-A0BB-C5620212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31DA9-3B27-4993-A47E-CBB6E2DF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3BFF7-61AD-4AC0-94F2-8516F18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3A572-043F-4E92-B457-877F8256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9EE4D-161F-4659-94E3-63A96A9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4CF93-679E-41FD-988A-EEA72CA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9255F-D96C-4C01-BE49-881B496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FC703-4C5C-4976-959F-47114406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BC051-0B12-4EE0-A509-580A88CA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D7391-CAAB-4C90-BD3C-1BB2C4E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4ACD-D364-4468-B12A-99033302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B8F9C-5E1C-4E70-9675-A591E67D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4BF87-EBC9-4091-BEC4-DACA0E77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9A176-4442-4C73-86B2-8C6E416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FF145-DBF8-4751-8492-2C43E4C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EA816-CDF1-4D3D-BA74-A9D514A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F73E6-DFFF-43AA-BA1B-6082D6A9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DE1E4-3A2A-4FF4-97D4-1B2A37A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0E4BD-2F7A-4519-BBD8-AB21DEB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92E2E-B14A-413B-9569-EF4F54A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78806E-D14D-4B7C-933C-95ED1DB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43B2-1F5F-4CEC-B39D-B5D22795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35AD4-1243-4550-A213-D403CF4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EB359-2286-4429-932A-7388849F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7B23B-50BF-46FF-9450-ED99A39C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7FEF-8ECC-4583-ADF7-144F99E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E97017-5A01-4BE3-B25C-ECB85D50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6292C-95B7-4674-9C88-918C23AA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FF3D0-F687-47BA-9F87-D160212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11D51-1490-4B39-9EF2-E10EFDF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CAFE2-ECD8-4E8A-99C9-BDFF9EA1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7407-7555-41FD-8DDC-CB60FB7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EC886E-105B-4565-9FD6-6F00C8C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BE05C-0E81-40EC-A942-0E5CE757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6567D-CFEF-4206-ADD9-15D9022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B8BA8-BA85-48D4-897B-DE0C207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522A5B-12B3-43E3-9B4B-15EB5D22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BEE81-76D0-4156-B4DE-22265875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866FD8-2A1C-4953-8F0D-A9C7A737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EA307-7B61-4B39-9148-6567C807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61596-DB5E-4793-BF00-1ACBD95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87E9E-8B96-4072-A337-BBFE2CF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24F2-A44F-41AC-B7DD-81637C3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E202A9-7B90-4626-A8DC-32F53FD5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96F30D-263A-4BFB-9217-0881831E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72B5F7-2196-4C7A-A18C-4B856FB9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6EE74-755D-41AB-BCBA-6CED7C4E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55A24-E477-49E9-913C-A550062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1A090E-8FF0-4CAF-A69B-85886AD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70BD02-314F-49D5-8636-00E77CE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EF251-F4F6-4467-A93A-3823FCBA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E4AD4-D1E9-4501-AA64-BB01AE3A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F6A20-F935-404B-83AE-4F7B734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860A-0FBB-45A1-8679-B61C3EE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9C7FEC-ECFC-42D7-A7AB-6625EBD2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45A169-5FA0-4219-9921-12141CD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CB891A-1B4A-4BF7-B0B8-0D4E93B7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C9FE3A-9469-4D35-B6B0-6E498FD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C799E7-E2CE-4D23-8EB5-2DB5D6F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9079D9-E1E6-411D-9932-AB579A7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F55BA-FDE3-44B4-B337-72C55F4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CFA9B8-C264-4D8C-AACB-9B221D1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D634D-3B59-4ECB-83AD-CC9F8FD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C8D19B-F1FD-4147-B09F-CFFB0B95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1D0-5572-45F3-9460-DE4A78B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1377-953D-4262-BDDD-2536E26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1FCAF-8C3B-4B9E-B84F-36788CDB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9FEB7F-F96C-4B70-B40E-019B88E4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98A045-F9B4-4BDF-B54D-59540C39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4463AE-7AA9-4A36-836F-E727D44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31BC90-D84B-4A15-A4F4-E319BB18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EBB518-90AA-42FD-8742-024DAD7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B49C9-4927-4541-A6CB-CBE42B72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88DB33-E25C-4E49-B2AF-99E50C0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DE967D-2CAE-4E7C-B1C4-7A36969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5CC726-DD9C-4605-8492-B1941515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BA9F-AB9A-4104-A90F-EDB802D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6F14F8-BFC6-48C9-8B78-94C734C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60E7C9-221F-4D80-BA86-A7599E8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CB1A7-CD7F-432E-81B0-117A5C01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3274E-5DB4-438B-AFBB-7A1364FD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AA41D5-710A-4B13-BE90-7A241AB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BDCB9E-601D-47E7-A6C8-1ED6A83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AF574-46E9-4586-BD98-8368E2A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D3193-9A09-4E5D-B54A-28A62379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B973F8-9E9F-49D8-BFBF-6E576E9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7C7DC-ECCA-4110-88BF-F84254A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C2FF-7B87-4E97-95AA-E12DFAA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12BC1-737F-400F-AC81-847419B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04DF0-19E3-42BE-AF2E-A2BD637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97F501-7C7D-4FC9-A028-BC658BF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536FC-762E-49B1-BFAE-4A8C114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47CF3-7BCE-473F-96C4-18BD066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263032-8E37-439B-B5A1-2254E87D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D428CC-53C2-4767-AB26-1967334E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450373-8350-4192-BA43-D83179A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F72773-4318-4DA0-9C45-D093F6E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84144C-CF38-4D3A-B761-2BA2351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14A7-3B2A-495A-8B6A-A4618B0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B264F8-B800-4944-9A2A-A30CCACB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3F8DDC-7797-4C0A-8F05-0C27899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F84EDE-B741-49D1-AB99-2D52F35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C33AA7-C819-4438-A85B-277AD39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61F3A7-E5C7-4D41-8B9C-460521D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A8561F-749A-4701-A0FC-1C79270A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4125E-36BB-4BA0-93F3-1568192C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09CF-5D35-4C6E-9A0F-1614623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A58D-D396-482E-9A52-AD522D9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021B-48F9-4604-B949-BBDBA8F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DF68-6F96-4119-9CD0-D13C9644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5D87-C71B-4828-BE49-94810CD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E2F6-BE9B-4EEC-8369-9335325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EE0-8C3C-4836-AA0E-E462E9F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A1C8-61FD-410F-A52E-A8DB5641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C35A-87C6-4166-A639-D95BAC06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2EA5-F779-40A8-B5D9-BD85799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4EBC-6120-4A92-9A4F-887B951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135B-8D63-486A-B0CA-C4AD9654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ACE6-D623-45DE-871E-6A98D94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5FDA-4D5D-444A-8C0B-54157B8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FAB6-AA08-4D04-908A-CA6D94A7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FA28-9F2E-4D5D-87E9-9A008BA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0CEE-33D6-42AA-BDBC-C838D2EC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58A-95F1-480A-ACE2-A883A15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9DCF-D251-4940-B08B-9763B31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CCD6-748B-4AD6-9FB5-C6E2345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58D5-F354-47A6-93FC-C03DFD7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3AFA-83D6-4454-BBD8-2A2F17F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E818-0E3B-4327-A71C-4C1F317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B253-8FD2-48EE-8E56-C4767687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991D-A602-44BD-B4A3-CF9893E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34ED-0CF6-4779-BC25-A91CE92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73CDE-95C6-4D29-8C65-E5382DEA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4106F-9B68-42E4-9154-3BFC1368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FC3-DE05-490C-AAB9-405883F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C31E-2FAD-4F23-903C-CB5C0D85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F5F4E-C567-4FFA-A52D-D4C98331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7F21-5C3C-4143-9036-1295E42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5AA6-8891-4835-ACAE-B14360F5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E709-6019-425F-9718-3B7E885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836B-CF51-43EE-A216-B65E021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CA17-D2DE-4FFF-8F48-88BF094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70A46-2862-4B9F-8D66-3B78D4A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793B-8884-4219-9FE8-67A3FEB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BFF4-2887-480B-BB9B-F7CCDB2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192-5B2B-4239-9CEF-533C22C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0BCC7-FED1-47C9-96AF-E8CF5BA1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546A-3F7C-4770-8D5D-E6DC0F40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05FA-45EF-4997-AB72-2081FCCF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C2AC5-D40E-45E9-92CD-C8057023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4641-1CC6-4893-AFD3-4A6054A7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3F6E-8B19-41EF-9858-47CB1D4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7A89-8E2B-480C-8121-FFD8B80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7ADB-8972-4224-A27B-74975087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1031-2FB6-41F6-9505-CFE9ADDA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2D72-3F90-4B52-8688-F18055D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294-2F94-4A81-9981-6A0718F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6534-2B08-481D-98EB-2DD70C0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89E5-0D91-48E6-AD85-ED12F11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54F6-5AFA-4CE8-BB05-36F7017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A0506-CE7C-411D-9347-C8D4D994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AE06-D4BC-4975-BEEA-E253AA18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1C47C-40DA-4CB3-AFF1-B6AA1FBD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E4FA-C4B7-4F13-83D1-9C6B4F0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4591A-7864-43BB-98EE-232A56E5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E2FA-928A-4FA6-9E6D-CEE120F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CC93-6D7A-4ACF-B730-2845F416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677-D38B-489A-B615-AC53B6A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0A5E-F8FC-4FBD-A373-5195011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DE59-C06D-4288-AF71-431AB59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93E58-DFEF-4445-BA5F-7903C1E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8614-5873-4BD4-B529-C3590E2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B6DED-5946-4B23-9332-319260E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E471-AD19-4F81-8E53-4385A7A9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69E9-5750-4F0C-BD89-FF9FCA85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527E4-422D-4863-883E-F17944C0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57CE-5755-482D-B2E8-DF3832C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35571-8E6C-4C2A-9F4D-4D6F32FF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6B8-4898-48F4-8792-3B4720654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0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D8F-058A-4CF4-8304-1CBB0275F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645D-40F0-49EE-AFFF-EC3EFC8D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52C-2311-428C-B9A2-460E36BFA2A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3DF-DC5C-4AED-818B-A13C8C47200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FA5-E728-4D12-9A56-9BA39A71ADD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D57F-16BC-43C5-9E81-BE0DCCE8F52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0D4D-C2B7-4F07-8310-C8A51AE3B57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D72-8D30-4DBC-96BA-5C6A40F6092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9FB-11F8-443A-8B7B-A14F207E51E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E08B-9552-439F-8627-1F99A2A060A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401-014F-4957-8F38-C5E531756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79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92AE-E9A1-4CFE-96AF-77B7CD461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11" descr="g14"/>
          <p:cNvPicPr/>
          <p:nvPr/>
        </p:nvPicPr>
        <p:blipFill>
          <a:blip r:embed="rId2"/>
          <a:stretch/>
        </p:blipFill>
        <p:spPr>
          <a:xfrm>
            <a:off x="0" y="0"/>
            <a:ext cx="6172200" cy="30862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1" marL="594360" indent="-22860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2" marL="91440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3" marL="128016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4" marL="164592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9C6D-BE6B-4D90-B874-9CF80BD87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7" descr="j0387248"/>
          <p:cNvPicPr/>
          <p:nvPr/>
        </p:nvPicPr>
        <p:blipFill>
          <a:blip r:embed="rId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6820-CD38-4F2D-9818-E929F78C0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C6E-8767-49D3-8495-7D801E5C5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DFA8-450A-47F6-B1A9-546AA4167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080-4E84-4D49-B563-721B1F2D4D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4B4-2A4E-42F6-91F9-D53180BD3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A749-C93C-4755-8CD8-09384E5A4B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g14"/>
          <p:cNvPicPr/>
          <p:nvPr/>
        </p:nvPicPr>
        <p:blipFill>
          <a:blip r:embed="rId2"/>
          <a:stretch/>
        </p:blipFill>
        <p:spPr>
          <a:xfrm flipH="1">
            <a:off x="7315200" y="525780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1" marL="594360" indent="-22860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2" marL="91440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3" marL="128016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4" marL="164592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Blackadder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41D-A218-487F-932E-809F2324F819}" type="slidenum"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j0387248"/>
          <p:cNvPicPr/>
          <p:nvPr/>
        </p:nvPicPr>
        <p:blipFill>
          <a:blip r:embed="rId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461-BD87-40C1-9743-9C4DF6393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0FAD-C804-4C8B-9A7D-ED995582E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3A3C-160E-4579-B7D9-782EB8B9EF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C9B-9EF7-4E06-994B-3BA6EB8951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97BC-3463-41EB-90E3-0F4BB03BAE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B50-7538-4A27-A496-22868C75FF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lackadder ITC"/>
              </a:rPr>
              <a:t>Joint Structure</a:t>
            </a:r>
            <a:endParaRPr b="0" lang="en-US" sz="8800" spc="-1" strike="noStrike">
              <a:solidFill>
                <a:srgbClr val="ffffff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713880" y="1785600"/>
            <a:ext cx="2071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ynovial Joints are freely mov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Gliding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articulating surfaces are usually flat (intercarpal, intertarsal, sternum and clavicle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1026" descr="C:\My Documents\gliding.gif"/>
          <p:cNvPicPr/>
          <p:nvPr/>
        </p:nvPicPr>
        <p:blipFill>
          <a:blip r:embed="rId1"/>
          <a:stretch/>
        </p:blipFill>
        <p:spPr>
          <a:xfrm>
            <a:off x="1600200" y="2209680"/>
            <a:ext cx="1782720" cy="19083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027" descr="C:\My Documents\gliding.jpg"/>
          <p:cNvPicPr/>
          <p:nvPr/>
        </p:nvPicPr>
        <p:blipFill>
          <a:blip r:embed="rId2"/>
          <a:stretch/>
        </p:blipFill>
        <p:spPr>
          <a:xfrm>
            <a:off x="4648320" y="2362320"/>
            <a:ext cx="2876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  <a:ea typeface="Times New Roman"/>
              </a:rPr>
              <a:t>Hinge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motions are flexion/extension (monoaxial); convex surface of one bone fits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into the concave surface of another (elbow, knee)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1026" descr="C:\My Documents\hinge.jpg"/>
          <p:cNvPicPr/>
          <p:nvPr/>
        </p:nvPicPr>
        <p:blipFill>
          <a:blip r:embed="rId1"/>
          <a:stretch/>
        </p:blipFill>
        <p:spPr>
          <a:xfrm>
            <a:off x="5029200" y="2743200"/>
            <a:ext cx="3322800" cy="141444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027" descr="C:\My Documents\hinge.gif"/>
          <p:cNvPicPr/>
          <p:nvPr/>
        </p:nvPicPr>
        <p:blipFill>
          <a:blip r:embed="rId2"/>
          <a:stretch/>
        </p:blipFill>
        <p:spPr>
          <a:xfrm>
            <a:off x="1828800" y="2362320"/>
            <a:ext cx="126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3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Pivo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rotational movement (monoaxial); rounded, pointed, or concave surface fits into a ring formed partly by bone and partly by a ligament (atlas and axis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26" descr="C:\My Documents\pivot.gif"/>
          <p:cNvPicPr/>
          <p:nvPr/>
        </p:nvPicPr>
        <p:blipFill>
          <a:blip r:embed="rId1"/>
          <a:stretch/>
        </p:blipFill>
        <p:spPr>
          <a:xfrm>
            <a:off x="1371600" y="2666880"/>
            <a:ext cx="925560" cy="145116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027" descr="C:\My Documents\pivot.jpg"/>
          <p:cNvPicPr/>
          <p:nvPr/>
        </p:nvPicPr>
        <p:blipFill>
          <a:blip r:embed="rId2"/>
          <a:stretch/>
        </p:blipFill>
        <p:spPr>
          <a:xfrm>
            <a:off x="4724280" y="2362320"/>
            <a:ext cx="26830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9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brous (synarthroses):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cks a joint cavity and the articulating bones are held very closely together by fibrous connective tissue;  they permit little or no mov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t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desmo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mpho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Ellipsoidal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oval shaped condyle fits into an elliptical cavity (wrist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1026" descr="C:\My Documents\ellipsoid.jpg"/>
          <p:cNvPicPr/>
          <p:nvPr/>
        </p:nvPicPr>
        <p:blipFill>
          <a:blip r:embed="rId1"/>
          <a:stretch/>
        </p:blipFill>
        <p:spPr>
          <a:xfrm>
            <a:off x="2720880" y="2386080"/>
            <a:ext cx="37004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Saddle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articular surfaces concave in one direction and convex in opposite direction (CMC of thumb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1026" descr="C:\My Documents\saddle.jpg"/>
          <p:cNvPicPr/>
          <p:nvPr/>
        </p:nvPicPr>
        <p:blipFill>
          <a:blip r:embed="rId1"/>
          <a:stretch/>
        </p:blipFill>
        <p:spPr>
          <a:xfrm>
            <a:off x="2730600" y="2604960"/>
            <a:ext cx="368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  <a:ea typeface="Times New Roman"/>
              </a:rPr>
              <a:t>Ball and socke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movement in 3 planes (triaxial); ball like surface fits into a cuplike depression (shoulder and hip)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1026" descr="C:\My Documents\ball_socket.jpg"/>
          <p:cNvPicPr/>
          <p:nvPr/>
        </p:nvPicPr>
        <p:blipFill>
          <a:blip r:embed="rId1"/>
          <a:stretch/>
        </p:blipFill>
        <p:spPr>
          <a:xfrm>
            <a:off x="4419720" y="2209680"/>
            <a:ext cx="4522680" cy="24624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027" descr="C:\My Documents\ballandsocket.gif"/>
          <p:cNvPicPr/>
          <p:nvPr/>
        </p:nvPicPr>
        <p:blipFill>
          <a:blip r:embed="rId2"/>
          <a:stretch/>
        </p:blipFill>
        <p:spPr>
          <a:xfrm>
            <a:off x="1219320" y="2666880"/>
            <a:ext cx="14968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5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cartila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surfaces of articulating bones but does not bind them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capsu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s the articular surfaces and encloses the joint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er layer (fibrous capsule): attached to the periosteum of articulating bones at a variable distance from the edge of the articulating carti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layer (synovial membrane): secretes synovial fluid which lubricates the j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rovides nourishment for the articular cartil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u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nd between the bones of the skull and are united by a thin layer of dense fibrous connective tissu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2" name="Picture 1030" descr="C:\Old Drive\kine\306\bone\suture"/>
          <p:cNvPicPr/>
          <p:nvPr/>
        </p:nvPicPr>
        <p:blipFill>
          <a:blip r:embed="rId1"/>
          <a:stretch/>
        </p:blipFill>
        <p:spPr>
          <a:xfrm>
            <a:off x="4906800" y="19810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(synovial) cav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losed space that surrounds the 2 articulating surfaces; contains the slippery lubricating fluid called synovi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game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ckened collagenous bands connecting bone to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apsular ligaments are outside of the articular capsule (MCL, L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capsular ligaments directly attach the 2 articulating surfaces (ACL, PC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discs (menisci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ds of fibrocartilage that lie between the articular surfaces of the bones; help maintain the stability of a joint and direct the flow of synovial fluid to areas of greatest friction;  not all synovial joints have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rsa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clike structures that contain synovial fluid to help reduce friction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in and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dons and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s and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gaments and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Picture 4" descr="C:\Old Drive\kine\306\bone\bursa"/>
          <p:cNvPicPr/>
          <p:nvPr/>
        </p:nvPicPr>
        <p:blipFill>
          <a:blip r:embed="rId1"/>
          <a:stretch/>
        </p:blipFill>
        <p:spPr>
          <a:xfrm>
            <a:off x="5181480" y="3429000"/>
            <a:ext cx="3257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C:\Old Drive\kine\306\bone\synovialjt.gif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Picture 2" descr="C:\Old Drive\kine\306\bone\synovial"/>
          <p:cNvPicPr/>
          <p:nvPr/>
        </p:nvPicPr>
        <p:blipFill>
          <a:blip r:embed="rId1"/>
          <a:stretch/>
        </p:blipFill>
        <p:spPr>
          <a:xfrm>
            <a:off x="2719440" y="137160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ndesmo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brous connective tissue forms an interosseous membrane or ligament (distal articulation of the tibia and fibula, shafts of radius and uln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5" name="Picture 1030" descr="C:\Old Drive\kine\306\bone\syndesmosis"/>
          <p:cNvPicPr/>
          <p:nvPr/>
        </p:nvPicPr>
        <p:blipFill>
          <a:blip r:embed="rId1"/>
          <a:stretch/>
        </p:blipFill>
        <p:spPr>
          <a:xfrm>
            <a:off x="4906800" y="213372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Gompho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e-shaped peg fits into a socket (teeth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9" name="Picture 1029" descr="C:\Old Drive\kine\306\bone\gomphosis"/>
          <p:cNvPicPr/>
          <p:nvPr/>
        </p:nvPicPr>
        <p:blipFill>
          <a:blip r:embed="rId1"/>
          <a:stretch/>
        </p:blipFill>
        <p:spPr>
          <a:xfrm>
            <a:off x="5105520" y="2895480"/>
            <a:ext cx="28461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inous (amphiarthroses):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cks a joint cavity and the articulating bones are tightly connected by cartilag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dros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hy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nchrond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necting material is hyaline cartilage (epiphyseal plate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4" name="Picture 6" descr="C:\Old Drive\kine\306\bone\synchondroses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mphy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necting material is a broad, flat disc of fibrocartilage (pubic symphysis; bodies of vertebrae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7" name="Picture 6" descr="C:\Old Drive\kine\306\bone\symphyse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ynovial (diarthroses)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cavity (space between the articulating bones) is present; freely mov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Glid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iv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lipsoi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15:37:45Z</dcterms:created>
  <dc:creator>Athletic Department</dc:creator>
  <dc:description/>
  <dc:language>en-US</dc:language>
  <cp:lastModifiedBy>Lyn Clarkson</cp:lastModifiedBy>
  <dcterms:modified xsi:type="dcterms:W3CDTF">2009-02-26T00:11:38Z</dcterms:modified>
  <cp:revision>11</cp:revision>
  <dc:subject/>
  <dc:title>Skeletal Structure</dc:title>
</cp:coreProperties>
</file>